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94E-798B-4544-94C6-3E67BD75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B46-A5C1-4E6A-903A-F217A91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8F2-83F4-4BEB-A09E-34DB315A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A13-65CD-4D93-A26B-9D83C92A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4D6-3A77-477E-978A-8064BDE8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06A-E335-4F04-BF43-2C6E2C7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225-7696-4AA6-B0FA-B4280508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C21-B47C-417C-8CCA-57BFEB8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079-37DD-45BB-A5BC-87683FE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A50-C5BB-4115-9BAE-9EB9BF8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B00-620F-4AD2-998F-1A3554EC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540-98B1-41C0-A363-56E47CC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E21-509D-4A60-9F4D-4FE3A5BA7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тилоидна пречаг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) processus styloideus ossis temporal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m. stylohyoideus, m. styloglossus, m. stylopharyngeus, 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  lig. stylohyoideum, lig. stylomandibularae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3) stilofarinfealna fascija (fascia stylopharynge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Латерофарингеални простор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1) Пре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prestyloideum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2)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етростилоидни простор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(spatium retrostyloide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стилоидни простор:</a:t>
            </a:r>
            <a:br>
              <a:rPr sz="20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спољашњи зид: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- m. pterygoideus medialis (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асетерични предео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унутрашњи зид: - бочни зид носног и усног дела ждрела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задњи зид: - унутрашњи део стилоидне преча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1800"/>
            </a:b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- доњи де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. styloglossus-a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a. palatina ascendens, a. pharyngea ascenden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вене пратиље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- n. pterygoideus medialis, n. tensoris veli palatini, n. tensoris</a:t>
            </a:r>
            <a:br>
              <a:rPr sz="1800"/>
            </a:b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  tympani, n. glossopharyng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7697" t="0" r="37469" b="37210"/>
          <a:stretch/>
        </p:blipFill>
        <p:spPr>
          <a:xfrm>
            <a:off x="684360" y="0"/>
            <a:ext cx="8028000" cy="689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9598" t="0" r="37986" b="39327"/>
          <a:stretch/>
        </p:blipFill>
        <p:spPr>
          <a:xfrm>
            <a:off x="755640" y="0"/>
            <a:ext cx="766908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6952" t="20168" r="9765" b="21972"/>
          <a:stretch/>
        </p:blipFill>
        <p:spPr>
          <a:xfrm>
            <a:off x="500040" y="642960"/>
            <a:ext cx="771516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6368" t="13915" r="9180" b="13575"/>
          <a:stretch/>
        </p:blipFill>
        <p:spPr>
          <a:xfrm>
            <a:off x="857160" y="-212760"/>
            <a:ext cx="7858080" cy="707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</a:rPr>
              <a:t>Лате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тростилоидни прос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едњи зид: стилоидна пречага – одваја г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унутр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 престилоидног простора, а својим 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спољашњим дело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д паротидне ложе која је спољ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lamina prevertebralis fasciae cervicalis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нутрашњи зи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septum longitudi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a. carot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v. jugularis interna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IX, X, XI, XII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ранијални нерв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горњи део стабла вратног симпати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7671" t="0" r="38170" b="39179"/>
          <a:stretch/>
        </p:blipFill>
        <p:spPr>
          <a:xfrm>
            <a:off x="611280" y="185760"/>
            <a:ext cx="7921440" cy="6672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7671" t="0" r="37469" b="37210"/>
          <a:stretch/>
        </p:blipFill>
        <p:spPr>
          <a:xfrm>
            <a:off x="395280" y="0"/>
            <a:ext cx="8026560" cy="6888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фарингеални прос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алази се иза ждрела, а  испред кичменог стуба прекривеног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идови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предњи: задњи зид ждрел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задњи: вратни кичмени пршљенови прекривени преткичменим мишићима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бочни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ptum longitudinale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држај: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- растресито ткиво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- 2-3 nodi lymphatici retropaharyng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10</cp:lastModifiedBy>
  <dcterms:modified xsi:type="dcterms:W3CDTF">2021-01-28T21:10:45Z</dcterms:modified>
  <cp:revision>1</cp:revision>
  <dc:subject/>
  <dc:title>Латерофарингеални простор</dc:title>
</cp:coreProperties>
</file>